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AC20-1D7C-4F90-A305-FE7A2143B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8160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9817-3158-4720-80E8-9F63899DC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8648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E557-DE7D-41DA-9FE8-E3F6277A2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7888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020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7888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020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29CF-A474-447E-8ECE-61C4594DE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990360"/>
            <a:ext cx="807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6DD3-26A8-4568-ABAF-2BE49627E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8648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47920" y="398160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58648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7888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10200" y="175248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4792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17888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10200" y="3981600"/>
            <a:ext cx="260064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817A-B875-4F7F-9007-15E99D078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8A15-06BA-4537-A429-660047150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9595-FE83-4C0A-9B18-B37FF7689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990360"/>
            <a:ext cx="80769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FF33-A3DE-4F4A-A897-9EBF9642C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1319-D8EA-44AD-8595-410D80CC1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6480" y="398160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273A-521C-4A46-8074-5066FDAD4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86480" y="1752480"/>
            <a:ext cx="394128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81600"/>
            <a:ext cx="8076960" cy="20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351B-23EB-4A58-8656-A0AACEA61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AVORI%20IN%20CORSO:Consip:flash02" descr=""/>
          <p:cNvPicPr/>
          <p:nvPr/>
        </p:nvPicPr>
        <p:blipFill>
          <a:blip r:embed="rId2"/>
          <a:srcRect l="754" t="0" r="1118" b="10984"/>
          <a:stretch/>
        </p:blipFill>
        <p:spPr>
          <a:xfrm>
            <a:off x="0" y="533412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447560" y="6324120"/>
            <a:ext cx="61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b33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D596-C6BD-4850-8C3F-DEE9A0066371}" type="slidenum">
              <a:rPr b="0" lang="en-US" sz="1200" spc="-1" strike="noStrike">
                <a:solidFill>
                  <a:srgbClr val="0b337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AVORI%20IN%20CORSO:Consip:PPT:17_11_06:mef%203%20righe" descr=""/>
          <p:cNvPicPr/>
          <p:nvPr/>
        </p:nvPicPr>
        <p:blipFill>
          <a:blip r:embed="rId3"/>
          <a:stretch/>
        </p:blipFill>
        <p:spPr>
          <a:xfrm>
            <a:off x="7848720" y="193680"/>
            <a:ext cx="1676160" cy="568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609480" y="228600"/>
            <a:ext cx="1752840" cy="55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438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1676160" y="5448240"/>
            <a:ext cx="148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b33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E29-275D-4FE4-928E-9CDCBE281C3C}" type="datetime">
              <a:rPr b="0" lang="en-US" sz="1400" spc="-1" strike="noStrike">
                <a:solidFill>
                  <a:srgbClr val="0b337b"/>
                </a:solidFill>
                <a:latin typeface="Trebuchet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5105520"/>
            <a:ext cx="1898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b337b"/>
                </a:solidFill>
                <a:latin typeface="Trebuchet MS"/>
              </a:rPr>
              <a:t>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60680" y="4343400"/>
            <a:ext cx="618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337b"/>
                </a:solidFill>
                <a:latin typeface="Trebuchet MS"/>
              </a:rPr>
              <a:t>Relatore Nome e Cogn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LAVORI%20IN%20CORSO:Consip:PPT:17_11_06:mef%203%20righe" descr=""/>
          <p:cNvPicPr/>
          <p:nvPr/>
        </p:nvPicPr>
        <p:blipFill>
          <a:blip r:embed="rId3"/>
          <a:stretch/>
        </p:blipFill>
        <p:spPr>
          <a:xfrm>
            <a:off x="609480" y="317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08120" y="5994360"/>
            <a:ext cx="2022480" cy="63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329600" y="5838840"/>
            <a:ext cx="1522440" cy="91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9007560" y="5950080"/>
            <a:ext cx="554040" cy="691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6668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160" y="335268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Sottotitolo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A650A88-4C86-41C1-A3C6-16F6616D9B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47920" y="1752480"/>
            <a:ext cx="7826400" cy="41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Consip  è  una 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società  per  azioni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  costituita  nel  1997  dal  Ministero del Tesoro (oggi Ministero dell’Economia e delle Finanze, MEF), che ne è azionista unic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Mission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 è promuovere il miglioramento continuo delle attività della P.A., attraverso la capacità di anticipare, comprendere ed elaborare le esigenze delle amministrazioni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Vision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 aziendale racchiude l’essenza del compito svolto: un partner al servizio della P.A. italiana nel cammino verso la modernizzazione, attuato attraverso la realizzazione di progetti innovativi basati sull’uso delle nuove tecnologi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Ha ottenuto la </a:t>
            </a: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certificazione di qualità ISO 9001:2008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 per l’“Ideazione, progettazione, sviluppo e attivazione di iniziative per l’acquisizione di beni e servizi, in qualità di centrale di committenza per la pubblica amministrazione: Convenzioni e Mercato Elettronico”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Profilo aziendale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093D-512A-48FD-A400-C1FFC2AFC0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Attività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968960" cy="35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e principali aree di attività Consip afferiscono alla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Gestione e sviluppo delle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oluzioni ICT del Ministero dell’Economia e delle Finanze, della Corte dei conti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, laddove previsto dalla normativa, delle altre Amministrazioni Centrali dello Stato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alizzazione del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rogramma di razionalizzazione della spesa pubblica per beni e servizi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che si basa sull’utilizzo di tecnologie informatiche e di modalità innovative per gli acquisti delle amministrazioni.</a:t>
            </a:r>
            <a:r>
              <a:rPr b="0" lang="en-US" sz="16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rogazione di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rvizi di consulenza ICT e di ottimizzazione degli acquisti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n favore delle restanti Pubbliche Amministrazioni o, comunque, Soggetti Pubblici in general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B1B6-AA4D-43F2-AEA2-09933AB8F2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1446120" y="988920"/>
            <a:ext cx="7871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Met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6120" y="1752480"/>
            <a:ext cx="787104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nsip offre servizi di consulenza e progettazione. L’Azienda si occupa dell’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deazione strategica dei progetti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avendo maturato competenze di alto livello su organizzazione, processi e sistemi informativi della 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e fasi realizzative dei progetti vengono svolte ricercando sul mercato le soluzioni più idonee alle esigenze delle amministrazioni. Consip è dunque anche “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mministrazione aggiudicatric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” che definisce, realizza e aggiudica gare d’appalto per conto delle amministrazio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nsip conta su un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rganico di circa 500 person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di cui il 44% donne. Più della metà sono impegnate nelle attività di supporto all’evoluzione informatica del MEF e un terzo nel Programma di razionalizzazione della spesa per beni e servizi delle PA. L’età media è inferiore ai 40 an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utta l’azione di Consip si basa sui valori dell’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nnovazione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della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rasparenza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della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ompetenza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e della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oncorrenza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A2C2-D3F5-4D20-BEC6-139F2C82BA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807696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114D-3EBD-4BBA-9F74-9052FF6C3E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20:28Z</dcterms:created>
  <dc:creator/>
  <dc:description/>
  <dc:language>en-US</dc:language>
  <cp:lastModifiedBy> </cp:lastModifiedBy>
  <cp:lastPrinted>2006-09-12T16:34:06Z</cp:lastPrinted>
  <dcterms:modified xsi:type="dcterms:W3CDTF">2010-11-17T14:30:25Z</dcterms:modified>
  <cp:revision>51</cp:revision>
  <dc:subject/>
  <dc:title> </dc:title>
</cp:coreProperties>
</file>